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4BD-B351-49EC-8AFF-3BBDF740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11E-9446-47A3-9B7D-019A468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D61-65BA-4731-A44F-F5F020D0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2D1-F943-4E43-8F7E-72D83F81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87F-8EA6-4952-9CC7-93CD3A73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DA1-BE69-44BD-8B5F-20A71B7E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FBA2-30DA-4271-8046-3B67EE5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2D96-4511-458C-877E-C45F27A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9E8E-BFCA-403F-8FDB-35ED5D5B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0718-6A20-4472-9115-AFF6D91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FA1-02C8-4D98-8A4C-B3A2A12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BC2-C269-4FDA-8343-7A7EC96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E50F-8B1A-4F6B-A938-0F743EC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9D29-2D0B-44B4-B76D-9D37D80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BCA6-FF70-419F-8AE7-23E9F724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2CB3-5F0D-4C11-B28B-53D3637F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877F-2EBC-4E58-A632-424F26A2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B5A-324E-4127-8344-4965DD0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46F-3919-4BDB-A322-E632818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1E4-E52E-410F-BF85-2ACB2EE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013-E9D5-43F3-B5D3-678E7B7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C32-7CA3-4623-B0D2-8FD430D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2B3-7B13-4560-972E-CC82FB8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1BB-9632-4D7B-BB7D-8F1B42A5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AC7-6426-4009-A0CA-A1AF267FE4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0959-C966-418D-AB4D-87605F7ADC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53006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Различай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-З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6580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ОГОПЕДИ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1530000"/>
            <a:ext cx="583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ебя он раскрывает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бя он закрывает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олько дождиче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ойдет – сдела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оборот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771640" cy="2253960"/>
          </a:xfrm>
          <a:prstGeom prst="rect">
            <a:avLst/>
          </a:prstGeom>
          <a:ln w="0">
            <a:noFill/>
          </a:ln>
        </p:spPr>
      </p:pic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83170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дбери пару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онкая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лнц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мняя                          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еннее                       п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р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вый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349360"/>
            <a:ext cx="3456000" cy="20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03640" y="3573360"/>
            <a:ext cx="2952720" cy="194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429000"/>
            <a:ext cx="3456000" cy="20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132000" y="2421000"/>
            <a:ext cx="2952720" cy="20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Пальчиковая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гимнасти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745080" cy="254808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10800"/>
                </a:moveTo>
                <a:lnTo>
                  <a:pt x="23146" y="3794"/>
                </a:lnTo>
                <a:lnTo>
                  <a:pt x="2314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0360" y="4962240"/>
            <a:ext cx="56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абушка очки надел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 внучонка разглядела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103640" cy="3380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491120" y="3790080"/>
            <a:ext cx="622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ом стоит с трубой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 крышей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 балкон гулять я вышел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а двери висит замок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то открыть бы его мог?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5280" y="472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тянули, покрутил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стучали и открыл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2116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ридумай слова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                                 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________               ________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2124000" y="4941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3794"/>
                </a:moveTo>
                <a:lnTo>
                  <a:pt x="23220" y="10800"/>
                </a:lnTo>
                <a:lnTo>
                  <a:pt x="920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7164360" y="4941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3794"/>
                </a:moveTo>
                <a:lnTo>
                  <a:pt x="23220" y="10800"/>
                </a:lnTo>
                <a:lnTo>
                  <a:pt x="920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втор разработ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укина Елена Альбертовн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12г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он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им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ол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Замок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4284720" y="45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в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ум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л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рока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4284720" y="472428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7200" y="333360"/>
            <a:ext cx="8229600" cy="5472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884760" y="58071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яц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3272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ймай звук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обака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метан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уб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вонок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ыр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023000" y="-981000"/>
            <a:ext cx="4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-96372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46080" y="-1001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7772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2840" y="-93024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99160" y="-6033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67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4 0.05783 L -0.05364 0.37266 E">
                                      <p:cBhvr>
                                        <p:cTn id="3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42817E-006 L -0.12309 0.50034 E">
                                      <p:cBhvr>
                                        <p:cTn id="4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6524 L -0.15399 0.61092 E">
                                      <p:cBhvr>
                                        <p:cTn id="5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12 0.07981 L -0.25642 0.72635 E">
                                      <p:cBhvr>
                                        <p:cTn id="66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5 0.07981 L -0.24896 0.83137 E">
                                      <p:cBhvr>
                                        <p:cTn id="7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Картинка 66 из 64000"/>
          <p:cNvPicPr/>
          <p:nvPr/>
        </p:nvPicPr>
        <p:blipFill>
          <a:blip r:embed="rId2"/>
          <a:stretch/>
        </p:blipFill>
        <p:spPr>
          <a:xfrm>
            <a:off x="1116000" y="0"/>
            <a:ext cx="6773760" cy="609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85920" y="60213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ас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60436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Картинка 71 из 64000"/>
          <p:cNvPicPr/>
          <p:nvPr/>
        </p:nvPicPr>
        <p:blipFill>
          <a:blip r:embed="rId2"/>
          <a:stretch/>
        </p:blipFill>
        <p:spPr>
          <a:xfrm>
            <a:off x="1116000" y="189000"/>
            <a:ext cx="6837480" cy="512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097160" y="544824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лис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10800"/>
                </a:moveTo>
                <a:lnTo>
                  <a:pt x="21460" y="3794"/>
                </a:lnTo>
                <a:lnTo>
                  <a:pt x="2146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Картинка 2 из 64000"/>
          <p:cNvPicPr/>
          <p:nvPr/>
        </p:nvPicPr>
        <p:blipFill>
          <a:blip r:embed="rId2"/>
          <a:stretch/>
        </p:blipFill>
        <p:spPr>
          <a:xfrm>
            <a:off x="1187280" y="115920"/>
            <a:ext cx="6409080" cy="5433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007520" y="55198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он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845964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44000" cy="31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867564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8532720" y="645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а_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_уд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имо_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_ум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ор_ин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лю_тр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116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69720" y="-85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8480" y="-5317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77720" y="-930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3200" y="-107460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9560" y="-747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-674640"/>
            <a:ext cx="3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97560" y="-1001880"/>
            <a:ext cx="4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5483 L -0.00451 0.22277 E">
                                      <p:cBhvr>
                                        <p:cTn id="9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547 L 0.08177 0.35925 E">
                                      <p:cBhvr>
                                        <p:cTn id="101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694 L 0.00347 0.44321 E">
                                      <p:cBhvr>
                                        <p:cTn id="11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66 0.06524 L -0.29618 0.57946 E">
                                      <p:cBhvr>
                                        <p:cTn id="12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7981 L -0.16979 0.69489 E">
                                      <p:cBhvr>
                                        <p:cTn id="13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0.0805 L -0.29618 0.77307 E">
                                      <p:cBhvr>
                                        <p:cTn id="14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«Найди зву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15303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995640" y="177336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372360" y="3213000"/>
            <a:ext cx="1506240" cy="3033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55960" y="3213000"/>
            <a:ext cx="1668600" cy="29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826920" y="3213000"/>
            <a:ext cx="1965600" cy="2957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340000" y="2852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2852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4072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080" y="5877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Поймай слог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88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__кол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392720" y="-831960"/>
            <a:ext cx="7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Со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227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о___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2040" y="22050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р__на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321300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ро___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86200" y="-8319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зов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24600" y="-8190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9360" y="-903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2276640"/>
            <a:ext cx="266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___к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27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___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94400" y="-83196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58920" y="-9032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ец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7 0.04927 L -0.43125 0.34304 E">
                                      <p:cBhvr>
                                        <p:cTn id="20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4949 L -0.52344 0.43756 E">
                                      <p:cBhvr>
                                        <p:cTn id="21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4741 L -0.45278 0.43548 E">
                                      <p:cBhvr>
                                        <p:cTn id="22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2 0.0495 L -0.36563 0.44797 E">
                                      <p:cBhvr>
                                        <p:cTn id="23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0.04926 L -0.23698 0.42692 E">
                                      <p:cBhvr>
                                        <p:cTn id="24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5966 L -0.08316 0.58418 E">
                                      <p:cBhvr>
                                        <p:cTn id="25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Характеристика звук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15772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р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4221000"/>
            <a:ext cx="2303640" cy="64800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ереднеязыч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80000" y="3284640"/>
            <a:ext cx="151272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вистящ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2349360"/>
            <a:ext cx="1441440" cy="64800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глас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вонк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716280"/>
            <a:ext cx="1081080" cy="647640"/>
          </a:xfrm>
          <a:prstGeom prst="flowChartProcess">
            <a:avLst/>
          </a:prstGeom>
          <a:solidFill>
            <a:srgbClr val="edfad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лух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20000" y="40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19640" y="299700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292360" y="3644640"/>
            <a:ext cx="647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51640" y="40053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71640" y="2997000"/>
            <a:ext cx="1008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71640" y="357300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4005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331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36572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076360" y="4292640"/>
            <a:ext cx="863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Загадк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46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тучат, стуча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не велят скучат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дут, идут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 все тут как тут.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940360" y="2276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92200" y="416412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317080" y="6308640"/>
            <a:ext cx="358560" cy="324000"/>
          </a:xfrm>
          <a:custGeom>
            <a:avLst/>
            <a:gdLst>
              <a:gd name="textAreaLeft" fmla="*/ 20880 w 358560"/>
              <a:gd name="textAreaRight" fmla="*/ 337680 w 3585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3901" h="21600">
                <a:moveTo>
                  <a:pt x="0" y="0"/>
                </a:moveTo>
                <a:lnTo>
                  <a:pt x="23901" y="0"/>
                </a:lnTo>
                <a:lnTo>
                  <a:pt x="23901" y="21600"/>
                </a:lnTo>
                <a:lnTo>
                  <a:pt x="0" y="21600"/>
                </a:lnTo>
                <a:close/>
              </a:path>
              <a:path fill="lightenLess" w="23901" h="21600">
                <a:moveTo>
                  <a:pt x="0" y="0"/>
                </a:moveTo>
                <a:lnTo>
                  <a:pt x="23901" y="0"/>
                </a:lnTo>
                <a:lnTo>
                  <a:pt x="22501" y="1400"/>
                </a:lnTo>
                <a:lnTo>
                  <a:pt x="1400" y="1400"/>
                </a:lnTo>
                <a:close/>
              </a:path>
              <a:path fill="darken" w="23901" h="21600">
                <a:moveTo>
                  <a:pt x="23901" y="0"/>
                </a:moveTo>
                <a:lnTo>
                  <a:pt x="23901" y="21600"/>
                </a:lnTo>
                <a:lnTo>
                  <a:pt x="22501" y="20200"/>
                </a:lnTo>
                <a:lnTo>
                  <a:pt x="22501" y="1400"/>
                </a:lnTo>
                <a:close/>
              </a:path>
              <a:path fill="darkenLess" w="23901" h="21600">
                <a:moveTo>
                  <a:pt x="2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1" y="20200"/>
                </a:lnTo>
                <a:close/>
              </a:path>
              <a:path fill="lighten" w="2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01" h="21600">
                <a:moveTo>
                  <a:pt x="4944" y="3794"/>
                </a:moveTo>
                <a:lnTo>
                  <a:pt x="18957" y="10800"/>
                </a:lnTo>
                <a:lnTo>
                  <a:pt x="494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4330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инное ухо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омочек пух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ыгает ловко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Любит морковку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506760" cy="2344680"/>
          </a:xfrm>
          <a:prstGeom prst="rect">
            <a:avLst/>
          </a:prstGeom>
          <a:ln w="76320">
            <a:solidFill>
              <a:srgbClr val="006699"/>
            </a:solidFill>
            <a:miter/>
          </a:ln>
        </p:spPr>
      </p:pic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8244000" y="623736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4546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Рыжая плутовк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хитрая да ловкая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сарай попал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ур пересчитала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206208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8388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22:05:59Z</dcterms:created>
  <dc:creator>Komp_125_6</dc:creator>
  <dc:description/>
  <dc:language>en-US</dc:language>
  <cp:lastModifiedBy>студент</cp:lastModifiedBy>
  <dcterms:modified xsi:type="dcterms:W3CDTF">2012-03-14T04:13:54Z</dcterms:modified>
  <cp:revision>8</cp:revision>
  <dc:subject/>
  <dc:title>Различай С-З</dc:title>
</cp:coreProperties>
</file>